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1F0A-8B0A-415F-B63F-93ADA145F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974-2F6B-40EA-B489-487F95588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77FC-E70C-4595-AA6B-42D8D596F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B66F-06DC-4100-A7C1-63F7234D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8A44-4D75-4515-B78C-BB2621A50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252C-233E-4268-99BC-26E7A8353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A36-4A18-4E9A-A8F9-1648390D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2E5-BC12-40C9-8FE8-D72591E8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61B-0C74-4112-9EF8-8B181F82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lass follow the transfer of heat and energy that causes atmospheric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E92C-1565-4342-9D22-B590A68F4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722-92F7-4614-88C6-E49905A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F92-CC41-4269-999D-3C03C86B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F3C-DC9B-4401-83E5-12FF7850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73C-5C64-431B-9E51-58443E31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968-9D93-4EFD-847F-04B4A37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C49-1FF1-444E-B831-776D76E1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CA5-4F58-468E-9033-501C76A2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2A7-A2C6-4803-9222-289881D1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A8D-0308-4DBD-BC23-5BC6489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13C-5DA5-4281-A677-D9C561B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5C5-90C0-4209-8124-AE99779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5D5-81AB-4A4A-8129-898FE82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DE36-3767-4A25-9054-923757F5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Greenhouse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plain how natural processes involving greenhouse gases cause warming of Earth’s atmosphe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, and/or chemical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12254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Energy Transf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jason.org/uploads/PublicUploads/CuteSoft/EnergyTransfer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EnergyTransfer.jpg"/>
          <p:cNvPicPr/>
          <p:nvPr/>
        </p:nvPicPr>
        <p:blipFill>
          <a:blip r:embed="rId1"/>
          <a:stretch/>
        </p:blipFill>
        <p:spPr>
          <a:xfrm>
            <a:off x="838080" y="946080"/>
            <a:ext cx="760104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blog.savcds.org/harrison/files/2010/03/675px-EM_Spectrum_Properties_edit.svg.p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675px-EM_Spectrum_Properties_edit.png"/>
          <p:cNvPicPr/>
          <p:nvPr/>
        </p:nvPicPr>
        <p:blipFill>
          <a:blip r:embed="rId1"/>
          <a:stretch/>
        </p:blipFill>
        <p:spPr>
          <a:xfrm>
            <a:off x="285840" y="888840"/>
            <a:ext cx="8572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3200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Solar radiation enters the Earth’s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’s surface converts solar radiation into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 radiates heat to atm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Gases in atmosphere absorb the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pic.greenhouse_effect.jpg"/>
          <p:cNvPicPr/>
          <p:nvPr/>
        </p:nvPicPr>
        <p:blipFill>
          <a:blip r:embed="rId1"/>
          <a:stretch/>
        </p:blipFill>
        <p:spPr>
          <a:xfrm>
            <a:off x="3463920" y="685800"/>
            <a:ext cx="56800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reaches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Visible Light and UV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is re-radiated by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Infrare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" name="Picture 4" descr="FIGURESCIRCACTIVITY.png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7:17:11Z</dcterms:created>
  <dc:creator>Julie Libarkin</dc:creator>
  <dc:description/>
  <dc:language>en-US</dc:language>
  <cp:lastModifiedBy>Nicole LaDue</cp:lastModifiedBy>
  <dcterms:modified xsi:type="dcterms:W3CDTF">2010-12-16T20:46:06Z</dcterms:modified>
  <cp:revision>308</cp:revision>
  <dc:subject/>
  <dc:title>PowerPoint Presentation</dc:title>
</cp:coreProperties>
</file>